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DA8-3050-4BD2-A1FD-ADCAD729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87E-9805-42AB-B19B-9E451952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505-C5DE-4069-A9A4-5F62B0F0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1FA-539B-41F2-BD21-CE34EB62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C47-8D48-4692-B67E-B0BDE8DC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9B2-057E-48BD-855A-D4D4EAF3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285-1A6B-4D14-B9F4-BE52ABB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EA8-552B-4416-A5A4-306A03B1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99D-0988-4684-95BA-BD24A12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8C7-1643-44DB-91C8-B7FCF73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52A-5494-4C0A-8A74-E61A77A3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CD7-6408-47C3-BC4D-78180A1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B80D-02CB-4E15-8895-A18B3DE212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5e5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1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44" name="Group 3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45" name="Group 9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46" name="Group 7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47" name="Freeform 4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6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" name="Freeform 8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23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52" name="Group 13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53" name="Freeform 10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1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2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Freeform 14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7061040" y="914400"/>
                  <a:ext cx="262080" cy="37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66" name="Freeform 24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9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68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69" name="Freeform 25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26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Freeform 28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Freeform 30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40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75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HAPTER 4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Experience of an Empire </a:t>
            </a:r>
            <a:br>
              <a:rPr sz="3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ighteenth-Century Americ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us Reviv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eat Awake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evangelical revivals that weakened old colonial religions (old lights vs new ligh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dedicate themselves to God, join organized churches, founded colleges, and question author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nathan Edwards emphasized the Calvinistic teachings of the Puritans and of an omnipotent God and predest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Whitefield sustained the reviv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wakening promoted a democratic, religious union of national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h of Political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ists attempted to emulate British political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 led to discovery of how different they were from English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Royal gover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owers than King in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 legi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miss ju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 provincial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NOT 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ial Assemblies/Legisl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-class democrac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function was to prevent the encroachments on the people’s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mblies controlled colony’s fin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incentive for assembly to cooperate with governors (sometimes even hostile toward t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d extreme vigilance against the spread of privilege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ssemblies brought Americans a greater awareness of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, 17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DIVI7233078"/>
          <p:cNvPicPr/>
          <p:nvPr/>
        </p:nvPicPr>
        <p:blipFill>
          <a:blip r:embed="rId2"/>
          <a:srcRect l="1581" t="1540" r="2072" b="1540"/>
          <a:stretch/>
        </p:blipFill>
        <p:spPr>
          <a:xfrm>
            <a:off x="2286000" y="17524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entury of Conflict: Major Wars, 1689–17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DIVI"/>
          <p:cNvPicPr/>
          <p:nvPr/>
        </p:nvPicPr>
        <p:blipFill>
          <a:blip r:embed="rId2"/>
          <a:srcRect l="17426" t="53535" r="21972" b="22859"/>
          <a:stretch/>
        </p:blipFill>
        <p:spPr>
          <a:xfrm>
            <a:off x="457200" y="1676520"/>
            <a:ext cx="838188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ury of Imperia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ain’s conflicts with continental rivals like France spilled over to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threats from these conflicts forced colonists into more military and political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had an overwhelming militarily force to New France but yet it was often in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bany Con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bany Congress, 17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jamin Franklin’s idea of central colonial govern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ed representatives decide on matters of defense, western expansion, and relations with Native 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ld levy taxes to support its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bany Plan failed, disliked by English and Americ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6" descr=""/>
          <p:cNvPicPr/>
          <p:nvPr/>
        </p:nvPicPr>
        <p:blipFill>
          <a:blip r:embed="rId2"/>
          <a:srcRect l="0" t="-29364" r="0" b="-2936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 Years’ War/French and Indian War 1756-17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s fought for control of the Mississippi River and Ohio River Val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er William Pitt shifted strategy to focus on North America (reason for vic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ce of Paris 1763: France 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tish got all North America east of Mississi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nch retained two Caribbea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articular war had the greatest impact on the colonies politically and economic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 after 17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DIVI7233084"/>
          <p:cNvPicPr/>
          <p:nvPr/>
        </p:nvPicPr>
        <p:blipFill>
          <a:blip r:embed="rId2"/>
          <a:srcRect l="1616" t="1562" r="1414" b="1562"/>
          <a:stretch/>
        </p:blipFill>
        <p:spPr>
          <a:xfrm>
            <a:off x="2286000" y="17524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s of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colonists aware of thei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d trained officer corps that knew British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nists saw themselves as “junior partners” to Brit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felt colonists ungrateful and not willing to bear their fair share of bu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38, Time Magazine chose Adolf Hitler for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n of the yea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verage human with a full head of hair contains between 85,000 to 150,000 hai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ou can give change for a dollar in 293 different coin variatio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nails can sleep for up to 3 yea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ly one state in the United States contains only one syllabl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n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European and African Immigrants in the Thirteen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6" descr="Map of colonial immigration.gif"/>
          <p:cNvPicPr/>
          <p:nvPr/>
        </p:nvPicPr>
        <p:blipFill>
          <a:blip r:embed="rId2"/>
          <a:srcRect l="-1868" t="0" r="-1868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7" descr="Colonial America 1770.jpeg"/>
          <p:cNvPicPr/>
          <p:nvPr/>
        </p:nvPicPr>
        <p:blipFill>
          <a:blip r:embed="rId3"/>
          <a:srcRect l="0" t="-26844" r="0" b="-2684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Growth and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1700-1750—colonial population rose from 250,000 to over two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Much growth through natural incre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Large influx of non-English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Scots-Irish Flee English O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Germans Search for a Better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Convict Settl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b0511"/>
                </a:solidFill>
                <a:latin typeface="Calibri"/>
              </a:rPr>
              <a:t>Native Americans Stake Out a Middle 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Disease and European settled agricultural practices made it difficult for Europeans and Natives to co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Many eastern Indians moved into trans-Appalachian region (Middle Grou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Native Americans continued to trade with Europeans for metal goods and weap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Play English and French against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panish Borderland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. 17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DIVI7233069"/>
          <p:cNvPicPr/>
          <p:nvPr/>
        </p:nvPicPr>
        <p:blipFill>
          <a:blip r:embed="rId2"/>
          <a:srcRect l="931" t="1861" r="506" b="1436"/>
          <a:stretch/>
        </p:blipFill>
        <p:spPr>
          <a:xfrm>
            <a:off x="609480" y="22096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Economic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9560" y="1904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Long-term period of economic and 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0511"/>
                </a:solidFill>
                <a:latin typeface="Calibri"/>
              </a:rPr>
              <a:t>Economies were geared to commerce, not manufact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b0511"/>
                </a:solidFill>
                <a:latin typeface="Calibri"/>
              </a:rPr>
              <a:t>Trade was mainly with England and West Indies (West Indies provided merchants with profits that offset their British deb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English mass-production of consumer goods stimulated rise in colonial imp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Inhabitants emulated Englis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Trade between colonies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eat Wagon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DIVI7233075"/>
          <p:cNvPicPr/>
          <p:nvPr/>
        </p:nvPicPr>
        <p:blipFill>
          <a:blip r:embed="rId2"/>
          <a:srcRect l="2867" t="1562" r="2791" b="1562"/>
          <a:stretch/>
        </p:blipFill>
        <p:spPr>
          <a:xfrm>
            <a:off x="2590920" y="1752480"/>
            <a:ext cx="3809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Enlighte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llectual movement that swept Europe with new, radical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ing for useful, practical knowledg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lightenment’s basic assump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stic view of human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d set up the universe and human society to operate by natural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reception 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4:06:41Z</dcterms:created>
  <dc:creator/>
  <dc:description/>
  <dc:language>en-US</dc:language>
  <cp:lastModifiedBy>Buffalo Grive High School</cp:lastModifiedBy>
  <dcterms:modified xsi:type="dcterms:W3CDTF">2012-09-07T16:36:14Z</dcterms:modified>
  <cp:revision>34</cp:revision>
  <dc:subject/>
  <dc:title>CHAPTER 4 Experience of Empire: Eighteenth-Century America</dc:title>
</cp:coreProperties>
</file>